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9C22-76E8-4083-BED3-FB9B1206E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29FA-4199-4889-A9D3-22756A8C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9B5E-4175-4992-AC6F-E1F77FCB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5BE2-3B2B-4209-A48F-C0700C071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20EF-0230-47B1-8365-64F1C84C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42A0-2413-454B-8BEF-EA2EBE55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2A73-DE56-4D57-9A8A-424D8054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B5F3-EBF6-4695-B50C-B9887403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47EC-AF6F-4E12-897C-BBF9E57D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8575-2DA5-4FA7-B947-E1116BEB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E36E-F746-4E13-8032-43677033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036C-2E53-4A83-A92F-62DF8377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025A-3DBD-4C1A-A0A6-2E57C6426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quia.com/quiz/664579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ive Case and Indirect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in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Dative Cas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d + Accus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:  Aquam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uella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n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e is giving the water </a:t>
            </a:r>
            <a:r>
              <a:rPr b="0" i="1" lang="en-US" sz="3200" spc="-1" strike="noStrike">
                <a:solidFill>
                  <a:srgbClr val="cc3300"/>
                </a:solidFill>
                <a:latin typeface="Arial"/>
              </a:rPr>
              <a:t>to the girl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ere, someone is giving water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to someon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indirect objec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.  There is no movement anywhere.  Therefore, we use the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dative ca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n Lat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int:  You will often have a dative case indirect object with the verbs mando, monstro, dono, and nuntio.  If there is no motion toward a location, you probably have an indirect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, click on the following link for a graded practice on the dative c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ive Case vs. Ad + Accusative Case</a:t>
            </a:r>
            <a:br>
              <a:rPr sz="3200"/>
            </a:b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quia.com/quiz/664579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un Case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now learned the uses of three different noun cases in Lat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minative:  subject and predicate nominative (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Reg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st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bo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tive:  calls/addresses someone (Regina clamat, “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Quin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sative:  direct object (Regina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cib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uellae ama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ive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ative case is used for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ndirect objec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ndirect objec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rectly receive the action of the ver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:  Anna pecuniam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nauta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n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na gives money </a:t>
            </a:r>
            <a:r>
              <a:rPr b="0" i="1" lang="en-US" sz="3200" spc="-1" strike="noStrike">
                <a:solidFill>
                  <a:srgbClr val="cc3300"/>
                </a:solidFill>
                <a:latin typeface="Arial"/>
              </a:rPr>
              <a:t>to the sailor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a Bene:  T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ail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person “to whom” Anna gives the money.  T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ail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ndirect o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ive Case (con’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direct object is the person(s) to or for whom an action i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:  Nauta aquam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uell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r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sailor carries the water </a:t>
            </a:r>
            <a:r>
              <a:rPr b="0" i="1" lang="en-US" sz="3200" spc="-1" strike="noStrike">
                <a:solidFill>
                  <a:srgbClr val="cc3300"/>
                </a:solidFill>
                <a:latin typeface="Arial"/>
              </a:rPr>
              <a:t>for the girl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a Bene:  The dative case is translated into English by the prepositions “to” or “fo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ive Case E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ative case endings for the first and second declensions are as foll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Declens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ell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ell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Declens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eclension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2209680"/>
          <a:ext cx="8229600" cy="2762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inative (Nom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ive (Dat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ī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usative (Acc.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ā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ative (Vo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eclension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2209680"/>
          <a:ext cx="8229600" cy="2762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inative (Nom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ive (Dat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ī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usative (Acc.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ative (Vo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Dative Cas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d + Accus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nglish, you can translate the dative case with the words “to” or “for”.  Also be aware that you know the Latin preposition “ad”, which means “to/toward”.  Here are some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:  He is carrying the water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o the isl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quam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ad insulam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por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entence is expressing movement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oward a pl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refore, the Latin preposition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plus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ccusative c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3:27:52Z</dcterms:created>
  <dc:creator>Lynchburg City Schools</dc:creator>
  <dc:description/>
  <dc:language>en-US</dc:language>
  <cp:lastModifiedBy>Stephen Czujko</cp:lastModifiedBy>
  <dcterms:modified xsi:type="dcterms:W3CDTF">2018-04-04T12:19:29Z</dcterms:modified>
  <cp:revision>8</cp:revision>
  <dc:subject/>
  <dc:title>Dative Case and Indirect Objects</dc:title>
</cp:coreProperties>
</file>